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3255-4E7C-43FE-9584-9C21038C4BC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olzen als beidseitig eingespannter Trä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3C57-F02D-4F28-AC5D-4E95A01F010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olzen als mittig eingespannter Trä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92AB-4907-4B12-BFB1-27C293BEC43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nenn = Stangenk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A = Anwendungsfaktor zur Berücksichtigung stoßartiger Belastung (zwischen 1,0 fü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ringe und über 2,25 für starke stoßartige Belast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σbzul = zulässige Biegespannung, typ. 0,3 Rm bei ruhender, 0,2 Rm bei schwellender, 0,15 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wechselnder Belas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 = Einspannfaktor – abhängig vom Einbaufall (Werte in Klammern für Gleitverbindun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6 (1,9) Einbaufall 1 (Bolzen lose in Stange und Gab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1 (1,4) Einbaufall 2 (Bolzen mit Übermaßpassung in Gab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1 (1,2) Einbaufall 3 (Bolzen mit Übermaßpassung in der St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0FDC-599F-48D4-8080-4985C0C5AB9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s = Querschnittsfläche des Bolz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00A-D343-486F-9F73-F9E15D405A0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Für Passgenauigkei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wenn die Verbindung öfters gelöst werden s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gel gleicht Abnutzung oder Lochaufweitung 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Einsatz meist als Passstifte, aber auch als Verbindungsstif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ufreiben der kegeligen Bohrung ist erforderlich, daher relativ teuer in der Herstell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Nicht rüttelf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gelstifte werden in ungehärtetem Zustand eingesetz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Gewinde zum leichteren Lö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5D3F-841D-41BD-A7E2-A154FB950CF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us ungehärtetem Stahl und aus austenitischem nichtrostenden St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Bohrung muss aufgerieben werden - &gt; teu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Für hochbeanspruchte Teile durchgehärtete oder einsatzgehärtete Stif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Zylinderstifte mit Innengewinde, wenn Stift nicht herausgeschlagen werden k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bflachung oder Längsrille dient zum Abfließen von Luft oder Ö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chtung auf Schwächung der Welle durch Bohr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689F-F36D-4126-9855-45A2AE2E20F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3 Kerbwulstpaare am Umf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Bohrung einfach herstellbar (kein Aufreib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Mein Einpressen nur elastische Verformung der Kerbwul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Rüttelfeste Verbind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Mehrfach wieder verwend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Sehr wirtschaftliche Verbind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Einsatz als Sicherungsstift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rbnägel für gering beanspruchte T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rbstifte i.d.R. aus Stahl oder austenitischem nichtrostenden St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ärte der Stifte soll größer sein als die der Baut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5F19-3120-421E-8234-3CF925FB94D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äufig angewendet als Gelenkverbindu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enger die Passungen, umso genauer die Führu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kann aber auch Gründe für großes Spiel geben, z.B. zur Aufnahme von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Wärmedehn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oder falls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arke Verschmutz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erwartet werden -&gt; Gelenk bleibt a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ter diesen Bedingungen leichtgäng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41FB-7D14-4DBF-BB56-F85211537F4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ypische Hauptbeanspruc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sch: Biegung  (ETB S.4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leitend (Lager): Flächenpres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Zusätzlich: Schu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ED38-86C0-4661-B28C-95CC892FF94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egebelastung: frei aufli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M S. 2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739B-9672-4994-B19E-90F90E36F19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DDC-A2BD-4F1B-8A91-CEC06C26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70A-F7F3-4189-A1D8-BFC6FE54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434-E4DF-456C-817A-14D53D91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0C5-A29B-423A-AFFE-30688DB7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BF6B-2A19-4584-9898-73BE846E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B301-C5E1-43B3-BA5C-5A165560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063B-472A-4A0B-835A-170A8CD0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EBAE-A3B1-4C70-AA03-7FD193D3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A7F6-07C6-422A-ADE5-FD3D00D0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F31-C5A7-46B2-8E3B-14FAD259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B26A-4297-4A43-9C95-AB7559E3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C98-7050-4382-8C4E-B2364E79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BC39-7869-44C2-B952-F4E92BA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F800-26E7-41E5-917A-7AEAF9E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B813-33B5-4FF4-80B1-B6F6DC7F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7F3A-F95F-4B61-9540-F9900F07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E50-F2E1-40E1-8DB7-2269AD00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10566-4949-4237-A824-E0ECCAEF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A9241-EDF5-47DC-806F-309E7C7A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0D33A-7B6E-4C95-9EAE-795E0362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A6D10-1CD1-47BF-A117-54DBC49E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BCB83-EB79-4649-B125-4BC4BAED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D9E-253D-4F29-9A0D-A43B6312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D2137-EC68-4420-A5B7-59D707BD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7E9D9-ECA3-48D3-9220-3BD289F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3EBCF-1273-4CC4-8130-25B95B5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28CE5-6B71-42CC-88AD-C2862548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3153B-8DAD-4F21-A3F9-3D3365C4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C904E-8FBC-4962-8C10-39CEFB76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CF12F-77E5-4906-B2F0-76D300C6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BAED7-682D-49E1-A3AB-F10DDA79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8E58F9-249C-4DC3-A297-03478708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D5870-D7BB-43D8-BF9D-EA271C43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C18-D275-4086-A0FC-34047A71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9EE7D-B01E-4837-A0F2-695FC803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4424B-E935-4A50-A1F9-A8D43A36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B54DA-0A2D-482D-8C98-5DB9292A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77015-ADBB-49F4-B835-5141CC2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4017B-201F-4717-83DC-9E7AD0B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8A973-E24B-4746-82E7-605FBC59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1A69A-6344-4109-8D95-11691AFE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0E81A-29DC-45C9-809B-F5E50AA0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68881-D91F-42BE-99C2-833E3083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4C3C0-3FB1-4D7C-98F2-729D120E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3E5-2703-4903-AA97-C808D673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40380-9DF8-42B3-8D39-FA78C259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ACADB-145C-4E04-BE5F-81446C2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139C3-38F8-4EA9-B09F-C628E7C8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95875-B073-4CC6-8480-8B90D61B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6531E-055E-4BC6-98C1-EE22BC01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C5785-09AE-4874-9613-8882F92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F6917-F893-4B54-88DE-45B370E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B80E3-81DE-4314-8666-F2D7928F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B1DCE-C018-4139-8DF3-313D8B9E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5983A-3136-4D0E-8F52-94AB9E1A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18E-008F-4E91-AC6B-5C3A0DC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636BD-310F-45B1-85E5-CCB2A95E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B3ACF-9B1D-44EC-970E-DEB37274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96484-713B-46B1-9B33-36CE7E42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F36FC-BD0F-4CF5-BB72-EEDCB322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5D1D-B003-4D9B-B680-A30C1857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D1E71-E3BC-47C2-A9EC-2D9EF440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6A53-6044-485F-A702-B630D451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4552A-DF09-4B9F-AC00-A9B1EEA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40ECF-A538-4042-A30A-F971DC54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0EBB8-ED0A-4D23-9D43-6405622D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7B8-D24F-48A6-B7BA-00D58E4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0E38-25B4-48D3-AE2F-7D0B775E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1289D-AB16-4431-8A92-F8D8BFA4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08DE9-172C-494C-9FE4-3A9FAFDC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A0619-D01B-40AD-ADB5-DC2EB320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4A4E5-9A46-4D04-B17F-56C24556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D7C49-F265-4503-93B7-39CE2D98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9108C-3AFF-4093-B0FD-F24F89C8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94E01-F0EB-4286-9647-A93100BD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070D6-E723-480A-9BAE-826E605B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81B1D-2684-4993-8CC6-636871E3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78E-3C7C-41A3-BB81-3280FBCF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B9973-38AA-4BE0-8A93-8D7277D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5B82D-10F0-452D-8CC7-BE3C87FD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88C34-D770-4051-9072-1A8B9DF7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6BDE4-547C-4F53-92D1-8379B6E4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E1105-18E7-412F-AFC2-7524129F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CC1F9-C6B3-445F-A5C4-1D112D8D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3F575-E7ED-4078-B8B5-F7137D27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4333-9072-4D83-BE19-C0E1B7DF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75130-04AB-4216-99A4-F6C085CF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CEF49-D1F6-4F3C-B576-804DE3D7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DDE-EEC9-4E54-84ED-7A38615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5E0A-B19D-4EBA-9C13-AC217FFD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B64D3-6F6D-4F73-9C32-9AE52D71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51299-A4F3-4A29-9226-50484A1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90105-3270-471D-9CEA-F0A5E0E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8D8C6-965D-4336-8FD7-1C27C456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0B785-D4E4-41B3-AF9A-0C14F78B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16685-28F3-4D2D-93B5-CA454960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67D1-D67F-441B-91D9-D724A66BEFD4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51CD-D7FC-4BCA-87F1-4A63A8F00F33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ec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ec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240A-017B-4B4B-9B3C-07C225758786}" type="datetime">
              <a:rPr b="0" lang="de-DE" sz="2000" spc="-1" strike="noStrike">
                <a:solidFill>
                  <a:srgbClr val="ffffff"/>
                </a:solidFill>
                <a:latin typeface="Tw Cen MT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F421-D2D8-46EF-B234-3FCD505EC2D9}" type="slidenum">
              <a:rPr b="1" lang="de-DE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ec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19F8-B7CB-475D-B970-E96119E21158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8BBB-AEAA-44BF-A63E-66C6E413DF05}" type="slidenum">
              <a:rPr b="1" lang="de-DE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FE2C-E79D-4600-A0E8-5A27EF3FE96B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FD71-2C78-4D84-8E51-AA8D87C1A446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DB94-64C8-4871-B721-027B1DDC1638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881E-5AEA-404E-B0D1-DCA6B6B41A43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6A17-17A9-4B55-8BEF-598627F07DE0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C3ED-8D29-4815-961C-D2253EED05DC}" type="slidenum">
              <a:rPr b="1" lang="de-DE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ec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ec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ec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ec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021-D606-4C72-88E6-025B94FE98B5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5B4-E277-408D-836B-0D66636CEBE3}" type="slidenum">
              <a:rPr b="1" lang="de-DE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ec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ec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ec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1383-DB01-4B98-9D2D-6841A113EC27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E8A4-3032-4352-A699-21491DE969E9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bddc3"/>
                </a:solidFill>
                <a:latin typeface="Tw Cen MT"/>
              </a:rPr>
              <a:t>BOLZEN- UND STIFTVERBINDUNGE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w Cen MT"/>
              </a:rPr>
              <a:t>Von Susanne Bartel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Gabel mit Übermaßpassung 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in der Stange mit einer 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98" name="Gerade Verbindung 5"/>
          <p:cNvSpPr/>
          <p:nvPr/>
        </p:nvSpPr>
        <p:spPr>
          <a:xfrm>
            <a:off x="4000680" y="4572000"/>
            <a:ext cx="2854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Gerade Verbindung 6"/>
          <p:cNvSpPr/>
          <p:nvPr/>
        </p:nvSpPr>
        <p:spPr>
          <a:xfrm>
            <a:off x="4000680" y="5000760"/>
            <a:ext cx="2854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Gerade Verbindung 7"/>
          <p:cNvSpPr/>
          <p:nvPr/>
        </p:nvSpPr>
        <p:spPr>
          <a:xfrm>
            <a:off x="5072040" y="4572000"/>
            <a:ext cx="2858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Gerade Verbindung 8"/>
          <p:cNvSpPr/>
          <p:nvPr/>
        </p:nvSpPr>
        <p:spPr>
          <a:xfrm>
            <a:off x="5072040" y="5000760"/>
            <a:ext cx="2858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Gerade Verbindung 9"/>
          <p:cNvSpPr/>
          <p:nvPr/>
        </p:nvSpPr>
        <p:spPr>
          <a:xfrm>
            <a:off x="4286160" y="4572000"/>
            <a:ext cx="785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Gerade Verbindung 11"/>
          <p:cNvSpPr/>
          <p:nvPr/>
        </p:nvSpPr>
        <p:spPr>
          <a:xfrm>
            <a:off x="4286160" y="5000760"/>
            <a:ext cx="785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12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feld 14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Stange mit einer Übermaß-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passung und in der Gabel mit einer 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09" name="Gerade Verbindung 4"/>
          <p:cNvSpPr/>
          <p:nvPr/>
        </p:nvSpPr>
        <p:spPr>
          <a:xfrm>
            <a:off x="4286160" y="4572000"/>
            <a:ext cx="7858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Gerade Verbindung 6"/>
          <p:cNvSpPr/>
          <p:nvPr/>
        </p:nvSpPr>
        <p:spPr>
          <a:xfrm>
            <a:off x="4286160" y="5000760"/>
            <a:ext cx="7858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Gerade Verbindung 7"/>
          <p:cNvSpPr/>
          <p:nvPr/>
        </p:nvSpPr>
        <p:spPr>
          <a:xfrm>
            <a:off x="4000680" y="4572000"/>
            <a:ext cx="2854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Gerade Verbindung 9"/>
          <p:cNvSpPr/>
          <p:nvPr/>
        </p:nvSpPr>
        <p:spPr>
          <a:xfrm>
            <a:off x="4000680" y="5000760"/>
            <a:ext cx="2854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Gerade Verbindung 10"/>
          <p:cNvSpPr/>
          <p:nvPr/>
        </p:nvSpPr>
        <p:spPr>
          <a:xfrm>
            <a:off x="5072040" y="4572000"/>
            <a:ext cx="285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Gerade Verbindung 11"/>
          <p:cNvSpPr/>
          <p:nvPr/>
        </p:nvSpPr>
        <p:spPr>
          <a:xfrm>
            <a:off x="5072040" y="5000760"/>
            <a:ext cx="285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feld 12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feld 14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 des Bolzendurchmess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428760" y="3071880"/>
            <a:ext cx="1611000" cy="94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20" name="Textfeld 8"/>
          <p:cNvSpPr/>
          <p:nvPr/>
        </p:nvSpPr>
        <p:spPr>
          <a:xfrm>
            <a:off x="785880" y="4214880"/>
            <a:ext cx="10000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43280" y="2357280"/>
            <a:ext cx="3810240" cy="24861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22" name="Textfeld 10"/>
          <p:cNvSpPr/>
          <p:nvPr/>
        </p:nvSpPr>
        <p:spPr>
          <a:xfrm>
            <a:off x="6286680" y="500076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3"/>
          <a:stretch/>
        </p:blipFill>
        <p:spPr>
          <a:xfrm>
            <a:off x="2786040" y="2143080"/>
            <a:ext cx="1028880" cy="249552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12"/>
          <p:cNvSpPr/>
          <p:nvPr/>
        </p:nvSpPr>
        <p:spPr>
          <a:xfrm>
            <a:off x="3000240" y="4786200"/>
            <a:ext cx="7858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hteck 13"/>
          <p:cNvSpPr/>
          <p:nvPr/>
        </p:nvSpPr>
        <p:spPr>
          <a:xfrm>
            <a:off x="4714920" y="2428920"/>
            <a:ext cx="3643200" cy="928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hteck 14"/>
          <p:cNvSpPr/>
          <p:nvPr/>
        </p:nvSpPr>
        <p:spPr>
          <a:xfrm>
            <a:off x="4714920" y="4500720"/>
            <a:ext cx="1500120" cy="214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hteck 15"/>
          <p:cNvSpPr/>
          <p:nvPr/>
        </p:nvSpPr>
        <p:spPr>
          <a:xfrm>
            <a:off x="4714920" y="4071960"/>
            <a:ext cx="371484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17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 der Bolzen län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4643280" y="2357280"/>
            <a:ext cx="3810240" cy="24861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32" name="Rechteck 4"/>
          <p:cNvSpPr/>
          <p:nvPr/>
        </p:nvSpPr>
        <p:spPr>
          <a:xfrm>
            <a:off x="4714920" y="3429000"/>
            <a:ext cx="3357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6" descr="617px-Neues_Bild_(2).jpg"/>
          <p:cNvPicPr/>
          <p:nvPr/>
        </p:nvPicPr>
        <p:blipFill>
          <a:blip r:embed="rId2"/>
          <a:stretch/>
        </p:blipFill>
        <p:spPr>
          <a:xfrm>
            <a:off x="714240" y="2357280"/>
            <a:ext cx="2428920" cy="25020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34" name="Textfeld 7"/>
          <p:cNvSpPr/>
          <p:nvPr/>
        </p:nvSpPr>
        <p:spPr>
          <a:xfrm>
            <a:off x="714240" y="5572080"/>
            <a:ext cx="2357640" cy="40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l = 2 x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 +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 + 2 x 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feld 8"/>
          <p:cNvSpPr/>
          <p:nvPr/>
        </p:nvSpPr>
        <p:spPr>
          <a:xfrm>
            <a:off x="6286680" y="500076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feld 10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chubspannung in der Nulllin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785880" y="3214800"/>
            <a:ext cx="3085920" cy="74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643280" y="2928960"/>
            <a:ext cx="3643560" cy="10717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41" name="Rechteck 7"/>
          <p:cNvSpPr/>
          <p:nvPr/>
        </p:nvSpPr>
        <p:spPr>
          <a:xfrm>
            <a:off x="4714920" y="3500280"/>
            <a:ext cx="3500280" cy="500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feld 8"/>
          <p:cNvSpPr/>
          <p:nvPr/>
        </p:nvSpPr>
        <p:spPr>
          <a:xfrm>
            <a:off x="1785960" y="4143240"/>
            <a:ext cx="10000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100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feld 9"/>
          <p:cNvSpPr/>
          <p:nvPr/>
        </p:nvSpPr>
        <p:spPr>
          <a:xfrm>
            <a:off x="5857920" y="414324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feld 11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mittlere Flächenpre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928800" y="2643120"/>
            <a:ext cx="247644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48" name="Textfeld 6"/>
          <p:cNvSpPr/>
          <p:nvPr/>
        </p:nvSpPr>
        <p:spPr>
          <a:xfrm>
            <a:off x="1571760" y="3714840"/>
            <a:ext cx="10000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100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5072040" y="2428920"/>
            <a:ext cx="2857680" cy="14479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0" name="Rechteck 8"/>
          <p:cNvSpPr/>
          <p:nvPr/>
        </p:nvSpPr>
        <p:spPr>
          <a:xfrm>
            <a:off x="5072040" y="2428920"/>
            <a:ext cx="2000160" cy="714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hteck 9"/>
          <p:cNvSpPr/>
          <p:nvPr/>
        </p:nvSpPr>
        <p:spPr>
          <a:xfrm>
            <a:off x="5072040" y="3214800"/>
            <a:ext cx="285768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feld 10"/>
          <p:cNvSpPr/>
          <p:nvPr/>
        </p:nvSpPr>
        <p:spPr>
          <a:xfrm>
            <a:off x="6072120" y="400068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1143000" y="4286160"/>
            <a:ext cx="1928880" cy="18907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4" name="Textfeld 12"/>
          <p:cNvSpPr/>
          <p:nvPr/>
        </p:nvSpPr>
        <p:spPr>
          <a:xfrm>
            <a:off x="1785960" y="6357960"/>
            <a:ext cx="6429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ETB S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feld 13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Tw Cen MT"/>
              </a:rPr>
              <a:t>Stiftverbindungen</a:t>
            </a: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 werden hergestellt, indem in eine durch alle zu verbindenden Teile gehende Aufnahmebohrung ein Stift mit Übermaß eingedrückt wi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ie entstehende Verbindung ist form- und kraftschlüssi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3500280" y="4572000"/>
            <a:ext cx="1860840" cy="15858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9" name="Textfeld 5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Einsatzgebiete Stif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der Lage (Fixzierung/Zentrierun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gegen verdre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Halterung von Fed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von Bolzen und Mutt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Wegbegrenzung von Maschinenteilen (Anschlagstif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2" name="Grafik 4" descr="http://www.einachser.org/schmiedag/Fahrwerk-Dateien/image009.jpg"/>
          <p:cNvPicPr/>
          <p:nvPr/>
        </p:nvPicPr>
        <p:blipFill>
          <a:blip r:embed="rId1"/>
          <a:stretch/>
        </p:blipFill>
        <p:spPr>
          <a:xfrm>
            <a:off x="2714760" y="4357800"/>
            <a:ext cx="3809880" cy="2320920"/>
          </a:xfrm>
          <a:prstGeom prst="rect">
            <a:avLst/>
          </a:prstGeom>
          <a:ln w="0">
            <a:noFill/>
          </a:ln>
        </p:spPr>
      </p:pic>
      <p:sp>
        <p:nvSpPr>
          <p:cNvPr id="463" name="Ellipse 5"/>
          <p:cNvSpPr/>
          <p:nvPr/>
        </p:nvSpPr>
        <p:spPr>
          <a:xfrm>
            <a:off x="3000240" y="5429160"/>
            <a:ext cx="571680" cy="5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Ellipse 7"/>
          <p:cNvSpPr/>
          <p:nvPr/>
        </p:nvSpPr>
        <p:spPr>
          <a:xfrm>
            <a:off x="5857920" y="5429160"/>
            <a:ext cx="571320" cy="5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egel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4071960" cy="39085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69" name="Textfeld 5"/>
          <p:cNvSpPr/>
          <p:nvPr/>
        </p:nvSpPr>
        <p:spPr>
          <a:xfrm>
            <a:off x="571680" y="2857680"/>
            <a:ext cx="292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ür durchgehende 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mit Gewindezapfen, für Grund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mit Innengewinde, für Grund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feld 6"/>
          <p:cNvSpPr/>
          <p:nvPr/>
        </p:nvSpPr>
        <p:spPr>
          <a:xfrm>
            <a:off x="5286240" y="6072120"/>
            <a:ext cx="121464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1 Bild 9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Zylinder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4071960" y="2357280"/>
            <a:ext cx="4572000" cy="28479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75" name="Textfeld 7"/>
          <p:cNvSpPr/>
          <p:nvPr/>
        </p:nvSpPr>
        <p:spPr>
          <a:xfrm>
            <a:off x="214200" y="314316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ür durchgehende 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-d) mit Innengewinde und Abflachung oder Längsrille zur Druckentla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e) lösen mit hilfe einer Abziehschra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) lösen mit Hilfe eines Schlaggewich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feld 8"/>
          <p:cNvSpPr/>
          <p:nvPr/>
        </p:nvSpPr>
        <p:spPr>
          <a:xfrm>
            <a:off x="5715000" y="5429160"/>
            <a:ext cx="12142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1 Bild 9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feld 10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Überbli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insatzgebie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or- und Nachtei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imensionier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erb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786120" y="2786040"/>
            <a:ext cx="4345200" cy="23954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81" name="Textfeld 5"/>
          <p:cNvSpPr/>
          <p:nvPr/>
        </p:nvSpPr>
        <p:spPr>
          <a:xfrm>
            <a:off x="500040" y="26431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erbprin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Pass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Zylinder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egel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Pass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Zylinderkerbstift mit 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Steck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nebel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Halbrundkerbn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)   Senkkerbn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feld 6"/>
          <p:cNvSpPr/>
          <p:nvPr/>
        </p:nvSpPr>
        <p:spPr>
          <a:xfrm>
            <a:off x="5357880" y="5357880"/>
            <a:ext cx="12142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2 Bild 9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Unter einem </a:t>
            </a:r>
            <a:r>
              <a:rPr b="1" lang="de-DE" sz="2900" spc="-1" strike="noStrike">
                <a:solidFill>
                  <a:srgbClr val="000000"/>
                </a:solidFill>
                <a:latin typeface="Tw Cen MT"/>
              </a:rPr>
              <a:t>Bolzen</a:t>
            </a: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 versteht man ein Maschinenelement zur gelenkigen Verbindung von Werkstück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können verschraubt oder durch Sicherungsstifte in der Verbindung gehalten werd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000240" y="4286160"/>
            <a:ext cx="2957760" cy="191448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65" name="Textfeld 5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Einsatzgebiete Bolz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Lose und feste Verbindung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erdrehsicherung für Naben/Well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Gelenkbolz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Lagegenaue Fixierung von Bauteil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Halterung für Fed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3429000" y="4429080"/>
            <a:ext cx="2357280" cy="2043000"/>
          </a:xfrm>
          <a:prstGeom prst="rect">
            <a:avLst/>
          </a:prstGeom>
          <a:ln w="0">
            <a:noFill/>
          </a:ln>
        </p:spPr>
      </p:pic>
      <p:sp>
        <p:nvSpPr>
          <p:cNvPr id="369" name="Textfeld 6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Vortei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s lassen sich ungleiche Werkstoffe leicht verbind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infache Herstell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ostengünstige Herstell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erbindung ist leicht lösb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Nachteile</a:t>
            </a: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Faserverlauf wird durch Bohrungen unterbroc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rmüdungsrisse können an den Bohrungen auftre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urch nötige Überlappung höheres Gewich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pannungen am Bohrloch durch dickere Wandungen ausgleic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Bolzen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1"/>
          <a:stretch/>
        </p:blipFill>
        <p:spPr>
          <a:xfrm>
            <a:off x="928800" y="1603440"/>
            <a:ext cx="5643360" cy="33685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78" name="Textfeld 4"/>
          <p:cNvSpPr/>
          <p:nvPr/>
        </p:nvSpPr>
        <p:spPr>
          <a:xfrm>
            <a:off x="1214280" y="521496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ohne Ko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ohne Kopf mit Splint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mit Kopf und Splintl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mit Kopf und Gewindezap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feld 5"/>
          <p:cNvSpPr/>
          <p:nvPr/>
        </p:nvSpPr>
        <p:spPr>
          <a:xfrm>
            <a:off x="6715080" y="3071880"/>
            <a:ext cx="121464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4 Bild 9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6"/>
          <p:cNvSpPr/>
          <p:nvPr/>
        </p:nvSpPr>
        <p:spPr>
          <a:xfrm>
            <a:off x="1071720" y="1857240"/>
            <a:ext cx="1143000" cy="271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feld 8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Beanspruchung der Bolz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Bieg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Schu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Flächenpre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bscher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 rot="5400000">
            <a:off x="4905720" y="2302560"/>
            <a:ext cx="4162320" cy="36781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85" name="Textfeld 4"/>
          <p:cNvSpPr/>
          <p:nvPr/>
        </p:nvSpPr>
        <p:spPr>
          <a:xfrm>
            <a:off x="6357960" y="6357960"/>
            <a:ext cx="135720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 Bild 9-2 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feld 6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5148360" y="2060640"/>
            <a:ext cx="36781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Gabel und in der Stange m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91" name="Gerade Verbindung 5"/>
          <p:cNvSpPr/>
          <p:nvPr/>
        </p:nvSpPr>
        <p:spPr>
          <a:xfrm>
            <a:off x="4000680" y="4572000"/>
            <a:ext cx="13572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Gerade Verbindung 6"/>
          <p:cNvSpPr/>
          <p:nvPr/>
        </p:nvSpPr>
        <p:spPr>
          <a:xfrm>
            <a:off x="4000680" y="5000760"/>
            <a:ext cx="13572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feld 7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feld 9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8:17:41Z</dcterms:created>
  <dc:creator>Susanne</dc:creator>
  <dc:description/>
  <dc:language>en-US</dc:language>
  <cp:lastModifiedBy>Susanne</cp:lastModifiedBy>
  <dcterms:modified xsi:type="dcterms:W3CDTF">2010-08-23T14:05:11Z</dcterms:modified>
  <cp:revision>81</cp:revision>
  <dc:subject/>
  <dc:title>Bolzen- und Stiftverbindungen</dc:title>
</cp:coreProperties>
</file>